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1CAD-8610-4F6B-AC72-ED153D4C57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Robert Mc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Robert Mc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e is characteriz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itter taste. (Milk of Magnes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eels slippery.  (Soapy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urns Red Litmus B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is characteriz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tter taste. (Milk of Magnes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eels slippery.  (Soapy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urns Red Litmus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Learn about Acids &amp; Bas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is the pH level of NYC tap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of a swimming pool must be checked periodically.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important for Lakes &amp; Rivers to maintain a certain 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Learn about Acids &amp; Ba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is the pH level of NYC tap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wimming pool must be checked periodically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important for Lakes &amp; Rivers to maintain a certain 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the pH of Pepsi, tap water, and drain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LUCK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the pH of Pepsi, tap water, and drain clea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oals for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etermine the difference between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the importance of studying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 an experiment dealing with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oals for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the difference between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studying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n experiment dealing with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H sca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 measures how acidic or basic a solution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measures how acidic or basic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 is the concentration of hydrogen ions in a given sub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is the concentration of hydrogen ions in a given sub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have a ph from 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pH value indicates a stronger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 have a pH from 7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pH value indicates a stronger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ph from 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pH value indicates a stronger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 have a pH from 7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pH value indicates a stronger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 of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id is a substance that breaks into         ions in an aqueou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e (alkaline) is a substance that breaks into           ions in an aqueou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aqueous solution is any solution where           is the sol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id is a substance that breaks into         ions in an aqueous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(alkaline) is a substance that breaks into           ions in an aqueous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queous solution is any solution where           is the sol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we Miss something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he pH of a substance is 7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A pH level of 7 indicates a Neutral Substance i.e: Wa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Miss something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he pH of a substance is 7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A pH level of 7 indicates a Neutral Substance i.e: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Your 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 of an ACID on the pH sca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 of a BASE and what is another name for a BA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7-14, Alka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nge of an ACID on the pH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nge of a BASE and what is another name for a B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7-14, Alka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Ac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can be characteriz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ur t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urns blue litmus paper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stes sour. Try drinking lemon juice (citric aci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can be characteriz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ur ta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urns blue litmus paper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stes sour. Try drinking lemon juice (citric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B38-6701-4D64-8037-ADAB873F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A56-827D-447C-89A1-3AE2941D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8D3-3257-4B60-90FB-1F00AB49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343-E0D9-40EB-80D3-7EB39784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6CF6-C09D-4A87-AE98-2668D383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59FF-7433-4731-A561-20CDAD08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2D1A-4A43-4E64-855B-92B76BFA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EE1D-6E16-4858-A308-7365CA89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3280-443B-4513-8CDA-C5F5C1D1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3BB7-7672-48C3-BB49-A3BC961A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31BE-ACA4-4D03-BBED-0513E763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C3A-9B29-49D7-BF40-9F34AED3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C956-8599-4F45-8766-43232650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3329-19CF-444F-BBB2-8DC89F75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E40C-29F4-4E13-9536-ACFD4D22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0864-2B2D-49E4-A61D-828ED9ED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5E04-E8B3-42D8-B81F-A1271216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8BA-E542-46E8-89E4-2EB4E8A6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659-54A4-4DFF-B0E4-D0AB4D8A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F96F-4E42-40F7-A641-0D011B27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4CAE-3B89-4548-BA51-782BBFE2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D8AD-02D2-434A-901E-102CD47E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1F0-1905-4808-851D-87E92A45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E9CC-C84B-4B0F-9BE0-ED1C5D94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F2F8-D8C7-4FCA-A594-7F7459CAA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4131-FBCC-45B7-8060-89497F741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480" y="17524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cids &amp; Bases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57600" y="46479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obert McG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Bas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ase is characterized b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tter taste. (Milk of Magne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feels slippery.  (Soapy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urns Red Litmu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Learn about Acids &amp; Base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is the pH level of NYC tap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of a swimming pool must be checked periodically.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important for Lakes &amp; Rivers to maintain a certain 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Experi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he pH of Pepsi, tap water, and drain clea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UCK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ur Goals for toda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difference between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importance of studying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an experiment dealing with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pH scale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2895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measures how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id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i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lutio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phscale"/>
          <p:cNvPicPr/>
          <p:nvPr/>
        </p:nvPicPr>
        <p:blipFill>
          <a:blip r:embed="rId1"/>
          <a:stretch/>
        </p:blipFill>
        <p:spPr>
          <a:xfrm>
            <a:off x="4572000" y="1295280"/>
            <a:ext cx="4419720" cy="55627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is the concentration of hydrogen ions in a given sub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895480" y="3886200"/>
                <a:ext cx="3886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Acids and Bas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i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ph from 0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er pH value indicates a stronger ac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as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pH from 7-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er pH value indicates a stronger b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s of Acids and Bas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5120" y="15998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id is a substance that breaks into         ions in an aqueous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e (alkaline) is a substance that breaks into           ions in an aqueous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aqueous solution is any solution where           is the sol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3124080" y="2057400"/>
                <a:ext cx="685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0" y="0"/>
                <a:ext cx="428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5334120" y="403848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5105520" y="5410080"/>
                <a:ext cx="838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d we Miss something?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 the pH of a substance is 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A pH level of 7 indicates a Neutral Substance i.e: Wa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st Your Knowledg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nge of an ACID on the pH sc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0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nge of a BASE and what is another name for a 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7-14, Alka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Acid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ids can be characterized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ur ta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urns blue litmus paper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stes sour. Try drinking lemon juice (citr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5:23:08Z</dcterms:created>
  <dc:creator>Polytechnic University</dc:creator>
  <dc:description/>
  <cp:keywords/>
  <dc:language>en-US</dc:language>
  <cp:lastModifiedBy>LEGION</cp:lastModifiedBy>
  <dcterms:modified xsi:type="dcterms:W3CDTF">2017-01-26T09:10:26Z</dcterms:modified>
  <cp:revision>8</cp:revision>
  <dc:subject/>
  <dc:title>Acids &amp;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